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E73-A3ED-4BEE-A8BE-465D09794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0E6-2D86-40B3-9857-DE3E97072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C0A-C1F1-4B9C-AB7B-D65E1C7EB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017B-7080-4572-BD76-6EBB6C5D2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EEA-468D-4727-AC2D-4F3738851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F9F-D85F-459C-9C02-8BFF86201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B04-FD20-4DB3-B51B-79E66043E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B8B-BA66-4B2E-937B-05D7969E1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6C3-7009-4D6B-88AB-BB07BD730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AB3E-CF0B-432F-AC9D-606C82461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D19-AFBD-41B8-B607-2E733ABDD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F2A-A3DA-46DF-AD29-9199D72F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CC7-0F1B-4631-A6AB-9C202F7C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662-9363-4C19-8D17-908C0EE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A33-8DB0-47FF-99AA-745E6CE0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AD4-D9D0-4996-A49A-52DBE4CF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7DE-0E7E-442F-B11E-96343B1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88F-0BF9-4D22-BBC5-CDB18FC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E3C-0965-4B3D-A83F-4D57AA34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29E-AD37-4719-B30C-91E7A9E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46D-F7ED-4B27-9DA3-30AA051E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E72-4E4C-4410-A572-EC698BA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9F8-816E-47A5-9774-5841DE4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CD0-2566-45E6-A280-7990133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43AB-3C7A-4644-8966-C3F2A44CE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hyme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048120" y="865080"/>
            <a:ext cx="3387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Hepner\AppData\Local\Microsoft\Windows\Temporary Internet Files\Content.IE5\3L8348RR\MPj04387200000[1].jpg"/>
          <p:cNvPicPr/>
          <p:nvPr/>
        </p:nvPicPr>
        <p:blipFill>
          <a:blip r:embed="rId1"/>
          <a:stretch/>
        </p:blipFill>
        <p:spPr>
          <a:xfrm>
            <a:off x="1600200" y="685800"/>
            <a:ext cx="5522760" cy="397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up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k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Hepner\AppData\Local\Microsoft\Windows\Temporary Internet Files\Content.IE5\XV4UTWKM\MCj03319220000[1].wmf"/>
          <p:cNvPicPr/>
          <p:nvPr/>
        </p:nvPicPr>
        <p:blipFill>
          <a:blip r:embed="rId2"/>
          <a:stretch/>
        </p:blipFill>
        <p:spPr>
          <a:xfrm>
            <a:off x="3352680" y="152388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it is your tur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 sentence that rhym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aw a picture to mat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Hepner\AppData\Local\Microsoft\Windows\Temporary Internet Files\Content.IE5\3L8348RR\MCj04038930000[1].wmf"/>
          <p:cNvPicPr/>
          <p:nvPr/>
        </p:nvPicPr>
        <p:blipFill>
          <a:blip r:embed="rId1"/>
          <a:stretch/>
        </p:blipFill>
        <p:spPr>
          <a:xfrm>
            <a:off x="3581280" y="38862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epner\AppData\Local\Microsoft\Windows\Temporary Internet Files\Content.IE5\3L8348RR\MCj04038930000[1].wmf"/>
          <p:cNvPicPr/>
          <p:nvPr/>
        </p:nvPicPr>
        <p:blipFill>
          <a:blip r:embed="rId2"/>
          <a:stretch/>
        </p:blipFill>
        <p:spPr>
          <a:xfrm>
            <a:off x="4800600" y="3886200"/>
            <a:ext cx="8985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4876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c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aring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h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Hepner\AppData\Local\Microsoft\Windows\Temporary Internet Files\Content.IE5\XV4UTWKM\MPj04447820000[1].jpg"/>
          <p:cNvPicPr/>
          <p:nvPr/>
        </p:nvPicPr>
        <p:blipFill>
          <a:blip r:embed="rId1"/>
          <a:srcRect l="56623" t="26450" r="0" b="8320"/>
          <a:stretch/>
        </p:blipFill>
        <p:spPr>
          <a:xfrm>
            <a:off x="3429000" y="641520"/>
            <a:ext cx="23623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114440"/>
            <a:ext cx="54864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Hepner\AppData\Local\Microsoft\Windows\Temporary Internet Files\Content.IE5\A01RF3KD\MPj03144060000[1].jpg"/>
          <p:cNvPicPr/>
          <p:nvPr/>
        </p:nvPicPr>
        <p:blipFill>
          <a:blip r:embed="rId1"/>
          <a:stretch/>
        </p:blipFill>
        <p:spPr>
          <a:xfrm>
            <a:off x="3200400" y="914400"/>
            <a:ext cx="3657600" cy="170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657600" y="22096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0" descr="C:\Users\Hepner\AppData\Local\Microsoft\Windows\Temporary Internet Files\Content.IE5\60JF1WTJ\MCj03110200000[1].wmf"/>
          <p:cNvPicPr/>
          <p:nvPr/>
        </p:nvPicPr>
        <p:blipFill>
          <a:blip r:embed="rId1"/>
          <a:stretch/>
        </p:blipFill>
        <p:spPr>
          <a:xfrm>
            <a:off x="2743200" y="685800"/>
            <a:ext cx="3429000" cy="320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4864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4114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riding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r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Hepner\AppData\Local\Microsoft\Windows\Temporary Internet Files\Content.IE5\A01RF3KD\MCj03379700000[1].wmf"/>
          <p:cNvPicPr/>
          <p:nvPr/>
        </p:nvPicPr>
        <p:blipFill>
          <a:blip r:embed="rId1"/>
          <a:stretch/>
        </p:blipFill>
        <p:spPr>
          <a:xfrm>
            <a:off x="4495680" y="1981080"/>
            <a:ext cx="1830600" cy="9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Hepner\AppData\Local\Microsoft\Windows\Temporary Internet Files\Content.IE5\68ZGCRBG\MCj03038350000[1].wmf"/>
          <p:cNvPicPr/>
          <p:nvPr/>
        </p:nvPicPr>
        <p:blipFill>
          <a:blip r:embed="rId2"/>
          <a:stretch/>
        </p:blipFill>
        <p:spPr>
          <a:xfrm>
            <a:off x="2514600" y="1828800"/>
            <a:ext cx="3581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Users\Hepner\AppData\Local\Microsoft\Windows\Temporary Internet Files\Content.IE5\XV4UTWKM\MCj03354860000[1].wmf"/>
          <p:cNvPicPr/>
          <p:nvPr/>
        </p:nvPicPr>
        <p:blipFill>
          <a:blip r:embed="rId1"/>
          <a:stretch/>
        </p:blipFill>
        <p:spPr>
          <a:xfrm>
            <a:off x="2895480" y="2023920"/>
            <a:ext cx="3886200" cy="2986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4953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4860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Hepner\AppData\Local\Microsoft\Windows\Temporary Internet Files\Content.IE5\0DIV0T1J\MCj04380230000[1].png"/>
          <p:cNvPicPr/>
          <p:nvPr/>
        </p:nvPicPr>
        <p:blipFill>
          <a:blip r:embed="rId2"/>
          <a:stretch/>
        </p:blipFill>
        <p:spPr>
          <a:xfrm>
            <a:off x="3429000" y="1295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C:\Users\Hepner\AppData\Local\Microsoft\Windows\Temporary Internet Files\Content.IE5\0DIV0T1J\MCj0287195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6483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fr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6383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a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C:\Users\Hepner\AppData\Local\Microsoft\Windows\Temporary Internet Files\Content.IE5\A01RF3KD\MCj03000730000[1].wmf"/>
          <p:cNvPicPr/>
          <p:nvPr/>
        </p:nvPicPr>
        <p:blipFill>
          <a:blip r:embed="rId2"/>
          <a:stretch/>
        </p:blipFill>
        <p:spPr>
          <a:xfrm>
            <a:off x="4343400" y="1752480"/>
            <a:ext cx="17668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190760"/>
            <a:ext cx="548640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Hepner\AppData\Local\Microsoft\Windows\Temporary Internet Files\Content.IE5\68ZGCRBG\MCj02376620000[1].wmf"/>
          <p:cNvPicPr/>
          <p:nvPr/>
        </p:nvPicPr>
        <p:blipFill>
          <a:blip r:embed="rId1"/>
          <a:stretch/>
        </p:blipFill>
        <p:spPr>
          <a:xfrm>
            <a:off x="3505320" y="533520"/>
            <a:ext cx="3628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4419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ro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562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lo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Hepner\AppData\Local\Microsoft\Windows\Temporary Internet Files\Content.IE5\BOTRE3XY\MCj02395470000[1].wmf"/>
          <p:cNvPicPr/>
          <p:nvPr/>
        </p:nvPicPr>
        <p:blipFill>
          <a:blip r:embed="rId1"/>
          <a:stretch/>
        </p:blipFill>
        <p:spPr>
          <a:xfrm>
            <a:off x="3505320" y="2133720"/>
            <a:ext cx="2651040" cy="214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Hepner\AppData\Local\Microsoft\Windows\Temporary Internet Files\Content.IE5\XV4UTWKM\MCj04247100000[1].wmf"/>
          <p:cNvPicPr/>
          <p:nvPr/>
        </p:nvPicPr>
        <p:blipFill>
          <a:blip r:embed="rId2"/>
          <a:stretch/>
        </p:blipFill>
        <p:spPr>
          <a:xfrm>
            <a:off x="3657600" y="1676520"/>
            <a:ext cx="1959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2:10Z</dcterms:created>
  <dc:creator>Hepner</dc:creator>
  <dc:description/>
  <dc:language>en-US</dc:language>
  <cp:lastModifiedBy>Hepner</cp:lastModifiedBy>
  <dcterms:modified xsi:type="dcterms:W3CDTF">2009-11-28T16:42:57Z</dcterms:modified>
  <cp:revision>14</cp:revision>
  <dc:subject/>
  <dc:title>Rhyme Time</dc:title>
</cp:coreProperties>
</file>